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15F-BAED-42BE-90AF-38BAF0FB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3F0-6D8F-4404-AA88-F5EBC39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047-EADE-4026-9046-3CFC54C6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05F-3C34-4B56-BBCC-5E1045F7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5A7-5E70-4368-9850-0C9D4DE6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A71-992E-49E1-9317-A5F99C0B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109-FE87-4E52-B2BF-438176F6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C6E-440E-428D-A7E0-19D2B66D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CB9-EF4A-49BA-95F3-AE940252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209-8493-45FF-88D0-4DD72062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EF2-59A4-4F2C-80A7-2A0CC62F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AF0-5A27-4263-9BC9-32EF0F51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6796-6EEC-47B8-A0E3-EB6D2DB8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1295280"/>
            <a:ext cx="693432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are infected with Tristate, run the ne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usScan to disinfect the infected Word and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s and spreadshe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un the Tristate PowerPoint rem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, choose the Tools menu, click Macr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choose the Macros sub-me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macro “Disinfect”, then 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”. Or, start this slideshow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04920"/>
            <a:ext cx="67816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Point Tristate Remover v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02:54:08Z</dcterms:created>
  <dc:creator>Avert</dc:creator>
  <dc:description/>
  <dc:language>en-US</dc:language>
  <cp:lastModifiedBy>Avert</cp:lastModifiedBy>
  <dcterms:modified xsi:type="dcterms:W3CDTF">1999-01-05T03:52:24Z</dcterms:modified>
  <cp:revision>2</cp:revision>
  <dc:subject/>
  <dc:title>No Slide Title</dc:title>
</cp:coreProperties>
</file>